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86FC2-C8E4-4E83-A945-FB4AD3568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24589-32B5-47E5-9EE6-B9379AEB8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8D95F-472D-430E-8BD0-FD9D05528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2FE6C-5DBB-4DE6-95D2-E8F013EB3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5DE522-E28F-46B2-BFA6-F1D6E46444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1D32A-43CE-432D-80E7-167186183B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E1D108-6005-4C21-AA54-97E7B68DA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DF8E3-361D-4412-B99B-B334C4635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B01E6-4FCF-4E54-98CB-9CA404596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CBDEC-BBB5-42FD-9548-CC60648E7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0BFE6-AB86-4662-94BF-0D038422A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C813B-E129-4260-903F-473247114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697EF-C65E-4CE1-8AEA-808793F70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45595-D2D3-4624-AA72-58EAECD74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BD730-9188-4C05-8A1F-4F940D07D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F0395E-81A4-4FDF-AD91-0B63C2D2DF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BB2D6F-78E6-4D6B-9DDA-CA3A1DF68B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26343-0531-4694-A5C2-4D1475E82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5EE42-B911-4B9B-98E6-99754CEED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C3365-EF41-4111-BED7-3147B2458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97FE4-D18E-4A99-B5D2-D39B74F74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19271-70BB-483D-9457-6E6CF9394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AF842-7325-478A-8FD5-D521BCCF8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7FCA2-CB39-4BD8-9024-0FDD8D734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DD378-22AA-4CC9-94A0-27D7B38630D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0D770-A21B-4ACD-9FB1-71A6C473106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roposte per la realizzazione del progetto di alternanza scuola-lavoro (F.P. 2005) </a:t>
            </a:r>
            <a:endParaRPr b="1" lang="en-US" sz="32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i indicate nel progetto approvato</a:t>
            </a:r>
            <a:endParaRPr b="1" lang="en-US" sz="32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76920" indent="-376920">
              <a:lnSpc>
                <a:spcPct val="80000"/>
              </a:lnSpc>
              <a:spcBef>
                <a:spcPts val="451"/>
              </a:spcBef>
              <a:buClr>
                <a:srgbClr val="003366"/>
              </a:buClr>
              <a:buSzPct val="75000"/>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realizzazione di percorsi di alternanza scuola-lavoro, rivolti a studenti di età compresa tra 15 e 18 anni</a:t>
            </a:r>
            <a:endParaRPr b="0" lang="en-US" sz="1800" spc="-1" strike="noStrike">
              <a:solidFill>
                <a:srgbClr val="003366"/>
              </a:solidFill>
              <a:latin typeface="Arial"/>
            </a:endParaRPr>
          </a:p>
          <a:p>
            <a:pPr marL="376920" indent="-376920">
              <a:lnSpc>
                <a:spcPct val="80000"/>
              </a:lnSpc>
              <a:spcBef>
                <a:spcPts val="451"/>
              </a:spcBef>
              <a:buClr>
                <a:srgbClr val="003366"/>
              </a:buClr>
              <a:buSzPct val="75000"/>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formazione dei tutor (aziendali e scolastici) </a:t>
            </a:r>
            <a:endParaRPr b="0" lang="en-US" sz="1800" spc="-1" strike="noStrike">
              <a:solidFill>
                <a:srgbClr val="003366"/>
              </a:solidFill>
              <a:latin typeface="Arial"/>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3</a:t>
            </a:r>
            <a:r>
              <a:rPr b="0" lang="it-IT" sz="1800" spc="-1" strike="noStrike">
                <a:solidFill>
                  <a:srgbClr val="003366"/>
                </a:solidFill>
                <a:latin typeface="Arial"/>
              </a:rPr>
              <a:t>	</a:t>
            </a:r>
            <a:r>
              <a:rPr b="0" lang="it-IT" sz="1800" spc="-1" strike="noStrike">
                <a:solidFill>
                  <a:srgbClr val="003366"/>
                </a:solidFill>
                <a:latin typeface="Arial"/>
              </a:rPr>
              <a:t>attività di informazione e orientamento sul mercato del lavoro e lo sviluppo della cultura d’impresa e per promuovere la modalità dei tirocini formativi da parte delle imprese</a:t>
            </a:r>
            <a:endParaRPr b="0" lang="en-US" sz="1800" spc="-1" strike="noStrike">
              <a:solidFill>
                <a:srgbClr val="003366"/>
              </a:solidFill>
              <a:latin typeface="Arial"/>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4</a:t>
            </a:r>
            <a:r>
              <a:rPr b="0" lang="it-IT" sz="1800" spc="-1" strike="noStrike">
                <a:solidFill>
                  <a:srgbClr val="003366"/>
                </a:solidFill>
                <a:latin typeface="Arial"/>
              </a:rPr>
              <a:t>	</a:t>
            </a:r>
            <a:r>
              <a:rPr b="0" lang="it-IT" sz="1800" spc="-1" strike="noStrike">
                <a:solidFill>
                  <a:srgbClr val="003366"/>
                </a:solidFill>
                <a:latin typeface="Arial"/>
              </a:rPr>
              <a:t>diffusione e utilizzo del Sistema Informativo degli sportelli camerali POLARIS</a:t>
            </a:r>
            <a:endParaRPr b="0" lang="en-US" sz="1800" spc="-1" strike="noStrike">
              <a:solidFill>
                <a:srgbClr val="003366"/>
              </a:solidFill>
              <a:latin typeface="Arial"/>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5</a:t>
            </a:r>
            <a:r>
              <a:rPr b="0" lang="it-IT" sz="1800" spc="-1" strike="noStrike">
                <a:solidFill>
                  <a:srgbClr val="003366"/>
                </a:solidFill>
                <a:latin typeface="Arial"/>
              </a:rPr>
              <a:t>	</a:t>
            </a:r>
            <a:r>
              <a:rPr b="0" lang="it-IT" sz="1800" spc="-1" strike="noStrike">
                <a:solidFill>
                  <a:srgbClr val="003366"/>
                </a:solidFill>
                <a:latin typeface="Arial"/>
              </a:rPr>
              <a:t>pubblicazioni sui fabbisogni formativi e sul monitoraggio delle esperienze di alternanza scuola-lavoro;</a:t>
            </a:r>
            <a:endParaRPr b="0" lang="en-US" sz="1800" spc="-1" strike="noStrike">
              <a:solidFill>
                <a:srgbClr val="003366"/>
              </a:solidFill>
              <a:latin typeface="Arial"/>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6</a:t>
            </a:r>
            <a:r>
              <a:rPr b="0" lang="it-IT" sz="1800" spc="-1" strike="noStrike">
                <a:solidFill>
                  <a:srgbClr val="003366"/>
                </a:solidFill>
                <a:latin typeface="Arial"/>
              </a:rPr>
              <a:t>	</a:t>
            </a:r>
            <a:r>
              <a:rPr b="0" lang="it-IT" sz="1800" spc="-1" strike="noStrike">
                <a:solidFill>
                  <a:srgbClr val="003366"/>
                </a:solidFill>
                <a:latin typeface="Arial"/>
              </a:rPr>
              <a:t>realizzazione di seminari di sensibilizzazione/divulgazione e comunicazione e degli obiettivi del progetto e dei risultati conseguiti;</a:t>
            </a:r>
            <a:endParaRPr b="0" lang="en-US" sz="1800" spc="-1" strike="noStrike">
              <a:solidFill>
                <a:srgbClr val="003366"/>
              </a:solidFill>
              <a:latin typeface="Arial"/>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7</a:t>
            </a:r>
            <a:r>
              <a:rPr b="0" lang="it-IT" sz="1800" spc="-1" strike="noStrike">
                <a:solidFill>
                  <a:srgbClr val="003366"/>
                </a:solidFill>
                <a:latin typeface="Arial"/>
              </a:rPr>
              <a:t>	</a:t>
            </a:r>
            <a:r>
              <a:rPr b="0" lang="it-IT" sz="1800" spc="-1" strike="noStrike">
                <a:solidFill>
                  <a:srgbClr val="003366"/>
                </a:solidFill>
                <a:latin typeface="Arial"/>
              </a:rPr>
              <a:t>predisposizione di un programma per garantire prospettive a medio termine delle linee d’intervento camerale sull’alternanza scuola-lavoro e l’orientament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iziative collegate alle azioni</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zione 1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zione dei progetti con la riapertura del band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zione 2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zazione dei corsi di formazione, di concerto con l’USR</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zione 3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zazione di moduli informativi di orientamento al mercato del lavoro e all’imprenditorialità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iziative collegate alle azioni</a:t>
            </a:r>
            <a:endParaRPr b="1" lang="en-US" sz="3600" spc="-1" strike="noStrike">
              <a:solidFill>
                <a:srgbClr val="006666"/>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Azione 4</a:t>
            </a:r>
            <a:r>
              <a:rPr b="0" lang="it-IT"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Assistenza alle scuole e alle aziende per l’utilizzo del sistema POLARIS e il popolamento delle banche dati, come negli anni passati; abilitazione delle scuole non ancora registrate</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Azione 5</a:t>
            </a:r>
            <a:r>
              <a:rPr b="0" lang="it-IT"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pubblicazioni sui fabbisogni formativi (1) e sul monitoraggio delle esperienze di alternanza scuola-lavoro (almeno 1) su cd rom e loro diffusione negli eventi previsti. I monitoraggi riguarderanno l’anno scolastico 2006/07 (a partire da fine febbraio – inizio marzo 2008)  e 2007/08 (a partire dal settembre 2008) e riguarderanno rispettivamente i progetti dell’anno scolastico 2006-07 e 2007-08. Proposta eventualmente integrativa: in collaborazione con le scuole disponibili, tra quelle finanziate da Unioncamere nel primo anno di sperimentazione,si potrebbero verificare nella primavera del 2008 la situazione di almeno 120 studenti,mettendo al centro il rapporto tra la o le esperienze fatte di alternanza scuola lavoro e la loro attuale condizione attraverso un questionario,che si potrebbe concordare con la Regione Emilia Romagna,Usr,Università e Province interessate. In questa fase le scuole potrebbero anche fare un confronto con altrettanti studenti che non hanno fatto esperienze di alternanza scuola lavoro. </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Azione 6</a:t>
            </a:r>
            <a:r>
              <a:rPr b="0" lang="it-IT" sz="1400" spc="-1" strike="noStrike">
                <a:solidFill>
                  <a:srgbClr val="003366"/>
                </a:solidFill>
                <a:latin typeface="Arial"/>
              </a:rPr>
              <a:t>	</a:t>
            </a:r>
            <a:r>
              <a:rPr b="0" lang="it-IT" sz="1400" spc="-1" strike="noStrike">
                <a:solidFill>
                  <a:srgbClr val="003366"/>
                </a:solidFill>
                <a:latin typeface="Arial"/>
              </a:rPr>
              <a:t>realizzazione di seminari di sensibilizzazione/divulgazione e comunicazione e degli obiettivi del progetto e dei risultati conseguiti (7)</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21:00:05Z</dcterms:created>
  <dc:creator>STEFANO </dc:creator>
  <dc:description/>
  <dc:language>en-US</dc:language>
  <cp:lastModifiedBy>lenzi</cp:lastModifiedBy>
  <dcterms:modified xsi:type="dcterms:W3CDTF">2008-01-28T14:51:00Z</dcterms:modified>
  <cp:revision>11</cp:revision>
  <dc:subject/>
  <dc:title>Diapositiva 1</dc:title>
</cp:coreProperties>
</file>